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C97-393F-43CB-BF7F-BDAF450F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F3C-1D0A-4BEC-B6E3-4BEC0A46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9FA-4DC6-4C5F-AB5D-3A646EEA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1A2-08A9-48D6-95CE-C57ECED0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8CC2-3F57-48D0-A09F-7AF48ACA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10DD-026F-4EB0-8A44-8DEB792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0EDE-6DE3-4CF3-9F5E-09B6B178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2E5A-91E9-46A2-926E-5337E523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1401-F8C7-4E11-92D5-E412AFAE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6B21-DC90-47AA-A761-16449A3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9B52-E904-485B-A9DB-AE747E2A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F30-D897-4CFE-A693-FEF42D50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2A39-C316-4A1C-86A2-56C25F7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DF6-5FF0-4C84-BC8A-9111FBA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B152-D144-4E37-9CD1-FDECA01D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AE3D-FBEF-4DB1-AC42-D6A45043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C495-5895-4FF7-AAA1-CA6C6008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E97-5DC5-483E-88B9-06566DFB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DC3-4E55-4199-AF4B-ED0856EE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554-FDA9-4DBE-90D0-91197562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A44-F93D-4808-A42C-342827A3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61E-B876-40E5-88BE-D581D24E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775-E163-4BF3-9908-A31F7C81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897-79A1-4A67-B972-F123480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0EA9-FD2B-4088-AC9D-E5EFE747FA5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73F-76ED-4286-801C-6F788492B69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rt 2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Quarter 12, Lesson 21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ummary of 2 Timoth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ges 249-253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493E-2771-4C96-8001-0CCFFAEEB2DC}" type="slidenum">
              <a:t>1</a:t>
            </a:fld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Friends and Supporters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4:9-18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, please come so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ring Mark, my cloak and my book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mas, Crescens, Titus and Tychicus have lef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nly Luke is still with 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ware of Alexander the coppersmi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No one helped at my defense, but the Lord – to Him be the glory forev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2D2-E467-46FE-BBEB-62EA1976C2BD}" type="slidenum">
              <a:t>10</a:t>
            </a:fld>
          </a:p>
        </p:txBody>
      </p:sp>
    </p:spTree>
  </p:cSld>
  <p:transition>
    <p:wipe dir="l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reetings and Benedictio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4:19-22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reet Aquila, Priscilla and Onesiphoru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ke every effort to come before wint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7D6-C030-4183-808C-83F289A59F73}" type="slidenum">
              <a:t>11</a:t>
            </a:fld>
          </a:p>
        </p:txBody>
      </p:sp>
    </p:spTree>
  </p:cSld>
  <p:transition>
    <p:wipe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Work Is Done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had done his job of preaching and offering salvation to the Gentil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“fruits of his labor” are still working toda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teen of his letters are included in the Bib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een chapters in Acts cover his activit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was ready to be “offered”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209-322A-494B-AA7B-E7F3ABFDCA4C}" type="slidenum">
              <a:t>12</a:t>
            </a:fld>
          </a:p>
        </p:txBody>
      </p:sp>
    </p:spTree>
  </p:cSld>
  <p:transition>
    <p:wipe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Death of Paul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was put to death by Ner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time was about A.D. 65 or 66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had confidence that a crown of righteousness was laid up for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nd to all those who look for Christ’s coming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00F-6412-4D88-8C7D-7C8A5A32FFE9}" type="slidenum">
              <a:t>13</a:t>
            </a:fld>
          </a:p>
        </p:txBody>
      </p:sp>
    </p:spTree>
  </p:cSld>
  <p:transition>
    <p:wipe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Last Letter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Nero was the Roman empero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bout A.D. 64 or 65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was in a “real” prison in Rom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hained, suffering and loneso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Only Luke was with him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ose in Asia had turned from him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shamed of him being in prison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is work and his life was near the en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needed to carry on the work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740-F898-4044-98A8-EDB6E6638D52}" type="slidenum">
              <a:t>2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Concern For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1:3-10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was longing to see his “dearly beloved son”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had a genuine fai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Holy Spirit had been imparted to him by the laying on of Paul’s hand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was suffering for preaching but he was not ashamed of the gosp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w Timothy would have to do the sa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DE2-F786-409F-8CB6-D2AD64E77AF0}" type="slidenum">
              <a:t>3</a:t>
            </a:fld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Encouragement To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1:11-18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2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aul knew the Lord had guarded that which had been committed to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needed encouragement to –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tain the standard of sound word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uard the treasure now in your charg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nesiphorus had been a true frien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was not ashamed of Pau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eagerly sought out Paul in Rom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ul prayed that the Lord grant him merc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93C-1884-4B37-8788-B5588F04034A}" type="slidenum">
              <a:t>4</a:t>
            </a:fld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Advice To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2:1-13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strong in the gra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reach to those who can teach oth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ndure hardships as a good soldi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 not become entangled in the affairs of this lif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No one wins a game unless they follow the rul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 endured all things for the sake of the chosen ones – you can to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C8E-C7F9-488F-A98D-08890BBB2B17}" type="slidenum">
              <a:t>5</a:t>
            </a:fld>
          </a:p>
        </p:txBody>
      </p:sp>
    </p:spTree>
  </p:cSld>
  <p:transition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Be A Diligent Workma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</a:t>
            </a: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 2:14-26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 not strive over words of no valu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tudy and rightly divide the word of tr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void worldly and empty chatt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lee from youthful lus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ollow righteousnes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void foolish and ignorant question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 not be quarrelsome/controversia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meekness, correct those who oppose the tr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AC8-EC2E-4FDF-89C2-D56849DB3D88}" type="slidenum">
              <a:t>6</a:t>
            </a:fld>
          </a:p>
        </p:txBody>
      </p:sp>
    </p:spTree>
  </p:cSld>
  <p:transition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erilous Times Are Coming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3:1-9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void wicked men and troublemak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ware of false teach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will lead people awa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will feed on their sins and their lust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se people will never come to a knowledge of the tr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se frauds will be brought dow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vil men and imposters will wax (grow, increase) worse and worse (v.13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FD5-FC07-4CE7-90EA-03BA430D772A}" type="slidenum">
              <a:t>7</a:t>
            </a:fld>
          </a:p>
        </p:txBody>
      </p:sp>
    </p:spTree>
  </p:cSld>
  <p:transition>
    <p:wipe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Ways To Combat These Evil Me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3:10-17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godly will suffer persecution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ut God will deliver them from persecuti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aul used his own exampl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imothy was reminde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o continue in the things he learned from his youth that made him wis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ll scripture is inspired by Go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man of God can be complete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And, be equipped for every good work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630-452D-4FB1-9AB0-BAF51DC0661A}" type="slidenum">
              <a:t>8</a:t>
            </a:fld>
          </a:p>
        </p:txBody>
      </p:sp>
    </p:spTree>
  </p:cSld>
  <p:transition>
    <p:wipe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Paul’s Final Charge To Timothy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2 Timothy 4:1-8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od will judge the living and the dea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ready always to preach the wor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eople will not want to hea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will desire to hear teachers who will please them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gardless of the opposition, remain firm and do the work of an evangelis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42E-FC4F-42F0-850C-76890BAB0592}" type="slidenum">
              <a:t>9</a:t>
            </a:fld>
          </a:p>
        </p:txBody>
      </p:sp>
    </p:spTree>
  </p:cSld>
  <p:transition>
    <p:wipe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07:05Z</dcterms:created>
  <dc:creator>Don Vines</dc:creator>
  <dc:description/>
  <dc:language>en-US</dc:language>
  <cp:lastModifiedBy>Frank D Vines</cp:lastModifiedBy>
  <dcterms:modified xsi:type="dcterms:W3CDTF">2007-05-21T16:22:21Z</dcterms:modified>
  <cp:revision>36</cp:revision>
  <dc:subject/>
  <dc:title>Q12L21</dc:title>
</cp:coreProperties>
</file>